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carbrake.wav" ContentType="audio/x-wav"/>
  <Override PartName="/ppt/media/image2.png" ContentType="image/png"/>
  <Override PartName="/ppt/media/whoosh.wav" ContentType="audio/x-wav"/>
  <Override PartName="/ppt/media/image3.png" ContentType="image/png"/>
  <Override PartName="/ppt/media/image4.png" ContentType="image/png"/>
  <Override PartName="/ppt/media/type.wav" ContentType="audio/x-wav"/>
  <Override PartName="/ppt/media/camera.wav" ContentType="audio/x-wav"/>
  <Override PartName="/ppt/media/laser.wav" ContentType="audio/x-wav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4B149-337A-4445-A424-441385D3DE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The Sound of Poetry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ound of Poet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Wave Patter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ve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peech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ords and their sounds vibrate to different parts of the body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made up of two elements – consonants and vowe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every letter and combination of letters has significanc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nd of words make the tone or textur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ord endings – fluid or harsh eg slice, baffling – fluid sounds; cat, difficult – harsh soun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 and their sounds vibrate to different parts of the bo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up of two elements – consonants and vow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letter and combination of letters has signific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of words make the tone or tex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 endings – fluid or harsh eg slice, baffling – fluid sounds; cat, difficult – harsh s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ord/Letter Soun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an add to the meaning – connot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O sounds and letters connect to images eg: The Moon rose over the ocea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ft sounding consonants – R, J, M, N, S, V, W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Hard sounding consonants – K, D, Q, T, C, B, P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me letters and combination of letters create full, thin or open soun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/Letter S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add to the meaning – conno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sounds and letters connect to images eg: The Moon rose over the oce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 sounding consonants – R, J, M, N, S, V, 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 sounding consonants – K, D, Q, T, C, B,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letters and combination of letters create full, thin or open s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Basic Sound Principl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Resonance – designates the ability of a vibration to reach out through waves to set off a similar vibration in another bod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Physics – sound vibrations are connected to the vibrations of atoms and molecules in the ai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Life is composed of atoms which contain protons and electrons.  These are electrically charged particles of energy, in constant motion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Sound Princip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nance – designates the ability of a vibration to reach out through waves to set off a similar vibration in another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– sound vibrations are connected to the vibrations of atoms and molecules in the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is composed of atoms which contain protons and electrons.  These are electrically charged particles of energy, in constant mo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ransmission of a resonant vibration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requires three things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Must be an original vibrating energy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.   Can be thought, sounds,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lours, musical instruments, voic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Must be a transmitting medium – air is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most common carri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here must be a receiver of the vibration, something which will receive and respond to the energy or sound vibration being sen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ssion of a resonant vibr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three thing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be an original vibrating energ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.   Can be thought, sounds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s, musical instruments, vo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be a transmitting medium – air i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mmon c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must be a receiver of the vibration, something which will receive and respond to the energy or sound vibration being 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he Effects of Sound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in any form – are cumulative and detectabl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nd in any of its forms is a source of energ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Effective as a tool to alter the electromagnetic fields and impulses of a human or an environmen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s of S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y form – are cumulative and detec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in any of its forms is a source of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ive as a tool to alter the electromagnetic fields and impulses of a human or an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Pitch of Sound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Pitch is the highness or lowness of the soun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Pitch is determined by the speed at which it vibrates.  The faster the sound vibrates, the higher the pitc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Low tones bend around objects when they are emitt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High-pitched tones are more focused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tch of S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tch is the highness or lowness of the s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tch is determined by the speed at which it vibrates.  The faster the sound vibrates, the higher the p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tones bend around objects when they are emit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-pitched tones are more focus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Decibel Level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one decibel is the quietest sound the average person can hea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decibels increase their effects logarithmicall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10 decibels of sound is ten times greater than one decibe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bel Leve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decibel is the quietest sound the average person can h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bels increase their effects logarithmic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decibels of sound is ten times greater than one decib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Decibel Level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20 decibels is 10 times greater than the ten decibel range or 100 times greater than 1 decibe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90 decibels – the range we can hear now – is equal to the sound of one train pulling into a subway st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100 decibels is equal to the sound of 10 trains pulling into the subway station at the same tim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bel Leve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decibels is 10 times greater than the ten decibel range or 100 times greater than 1 decib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 decibels – the range we can hear now – is equal to the sound of one train pulling into a subway 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 decibels is equal to the sound of 10 trains pulling into the subway station at the sam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ave Patterns of Sound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aves - Rhythmic disturbance that carries energy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avelength - Distance between a point on a wave and the identical point on the next wave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Period - Time required for one wavelength to pas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Frequency - Number of waves passing per second. The unit of measure is hertz (Hz)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 Patterns of S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s - Rhythmic disturbance that carries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length - Distance between a point on a wave and the identical point on the next wa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 - Time required for one wavelength to pa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- Number of waves passing per second. The unit of measure is hertz (Hz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ave patterns continu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Frequency - Number of waves passing per second. The unit of measure is hertz (Hz)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Amplitude - Greatest distance of a wave's rise or fall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ave Velocity - Wave velocity is the distance a wave travels per second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avelength - velocity / frequency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 patterns continu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- Number of waves passing per second. The unit of measure is hertz (Hz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litude - Greatest distance of a wave's rise or f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 Velocity - Wave velocity is the distance a wave travels per seco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length - velocity / frequenc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58D6-6510-424C-BB5A-AF048EDA1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162D-EFEC-4CE3-83B4-91B488C2B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1D46-FEE2-434C-AE35-C97C1A5BD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12C6-1BC9-4448-ABB6-44FCA2D0A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31BFA-C927-4640-A3EF-4E8AF6F75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32256-1F23-47C1-82E6-EC4158929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B408F-9DA7-43F4-8D91-193D4EBE4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A36D4-BCA7-4FDF-ADCB-770DA60C6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653A6-7C8C-484B-88DA-EA6EA2A82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D3493-44D0-49B4-85DD-246FAF1C5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6F487-297D-4341-AFFC-82F0A4ED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9123-7AB5-4874-B167-C32CC53D4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EBBD8-EA7E-4B50-93DA-198DEA54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1274E-6EDF-4423-88E9-55C920FC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755E2-621C-4070-84CB-3EB309979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2116D-964A-45E1-A2F0-4A9EA1A55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ED124-5A03-4563-A7AE-B50EC8779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F766-C63F-49B7-939C-8909F290D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58FF-E99D-41FF-AB94-74CAFB70E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A6E3-04CE-4760-AC74-0DBB595BC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1938-4405-4901-9C87-F5F67AF4B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3A5C-293D-418F-A1B0-F174AFF5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982E-C654-49EA-BFC8-7B9C6322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A90A-7FFB-4EDA-94B0-1FF12432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16" descr="ARTHSEPA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18" descr="Arthsepa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963E5-9A6F-42E3-96CF-3C1E061CFD88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8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16" descr="ARTBANNA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17" descr="Arthsepa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115A2-7D1B-4AC0-9622-BBD2C65B79A4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e Sound of Poetry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8680" y="380520"/>
            <a:ext cx="8208720" cy="56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ave Patter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3" name="Picture 6" descr="U11l2a2"/>
          <p:cNvPicPr/>
          <p:nvPr/>
        </p:nvPicPr>
        <p:blipFill>
          <a:blip r:embed="rId1"/>
          <a:stretch/>
        </p:blipFill>
        <p:spPr>
          <a:xfrm>
            <a:off x="2971800" y="2133720"/>
            <a:ext cx="320040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peech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ords and their sounds vibrate to different parts of the body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ade up of two elements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consonants and vowel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very letter and combination of letters has significance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ound of words make the tone or textur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ord endings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fluid or harsh eg slice, baffling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fluid sounds; cat, difficult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harsh sound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ord/Letter Sound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an add to the meaning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connota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O sounds and letters connect to images eg: The Moon rose over the ocean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oft sounding consonants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R, J, M, N, S, V, W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Hard sounding consonants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K, D, Q, T, C, B, P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ome letters and combination of letters create full, thin or open sound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75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3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3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3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3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3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3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3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3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3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3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asic Sound Principles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sonance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designates the ability of a vibration to reach out through waves to set off a similar vibration in another bod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hysics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sound vibrations are connected to the vibrations of atoms and molecules in the ai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ife is composed of atoms which contain protons and electrons.  These are electrically charged particles of energy, in constant motion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ransmission of a resonant vibration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quires three things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ust be an original vibrating energy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ource.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an be thought, sounds,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olours, musical instruments, voic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ust be a transmitting medium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air is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ost common carri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re must be a receiver of the vibration, something which will receive and respond to the energy or sound vibration being sen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e Effects of Sound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 any form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are cumulative and detectable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ound in any of its forms is a source of energ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ffective as a tool to alter the electromagnetic fields and impulses of a human or an environmen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75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itch of Sound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itch is the highness or lowness of the soun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itch is determined by the speed at which it vibrates.  The faster the sound vibrates, the higher the pitch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ow tones bend around objects when they are emitte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igh-pitched tones are more focused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75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75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75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75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17160" y="1519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ecibel Levels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001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ne decibel is the quietest sound the average person can hea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ecibels increase their effects logarithmicall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10 decibels of sound is ten times greater than one decib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7160" y="1519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ecibel Levels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1536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20 decibels is 10 times greater than the ten decibel range or 100 times greater than 1 decib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90 decibels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the range we can hear now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is equal to the sound of one train pulling into a subway sta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100 decibels is equal to the sound of 10 trains pulling into the subway station at the same tim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ave Patterns of Sound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aves - Rhythmic disturbance that carries energy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avelength - Distance between a point on a wave and the identical point on the next wave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eriod - Time required for one wavelength to pass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requency - Number of waves passing per second. The unit of measure is hertz (Hz)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75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75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75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75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75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75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75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75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75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75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ave patterns continued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requency - Number of waves passing per second. The unit of measure is hertz (Hz)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mplitude - Greatest distance of a wave's rise or fall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ave Velocity - Wave velocity is the distance a wave travels per second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avelength - velocity / frequency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9T16:57:44Z</dcterms:created>
  <dc:creator>Gaile Wotherspoon</dc:creator>
  <dc:description/>
  <dc:language>en-US</dc:language>
  <cp:lastModifiedBy>RomaK</cp:lastModifiedBy>
  <dcterms:modified xsi:type="dcterms:W3CDTF">2015-09-02T09:48:50Z</dcterms:modified>
  <cp:revision>5</cp:revision>
  <dc:subject/>
  <dc:title>The Sound of Poetry </dc:title>
</cp:coreProperties>
</file>